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BF79-4FC1-420F-BFAD-E22C3E448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3F0D-893D-4D95-B161-8FFE2EDED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1E77-F6F5-4024-9E04-1B80DCFE1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A41E-A311-4B8F-BE6A-87272276C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7160-208F-4AA0-9E78-150B999A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83D0B-3248-45AC-BC5E-3FAFECC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0B64A-BBCC-462F-A8F0-20696BFA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CA827-B680-4003-93A4-8DC9FFBF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AB1C7-5AAA-47F1-9015-105FA8E2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7F4D0-52C5-4AAD-8A2D-E8869AD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FB945-B2A2-491E-8D91-C088EDF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EE81-0BB3-4F54-90B4-EA8865439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D03DC-7F8B-409D-B8FA-D7CD21D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6054A-A148-4864-B3DC-4B6DD85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2688B-B059-4E46-B236-6B18F62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40D23-F339-44A9-9A0C-1814A224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3A88-9558-42D2-A5D8-F1913D9B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E9CE-348D-4571-973C-274CC0A2A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8E98-3C43-4ED8-8C0F-356439823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4FD3-8537-4705-8C4A-2F785067F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9393-58CF-48C8-96D5-31E7927A1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D09F-6B3D-4373-8E2C-70A4E34CE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9352-F82E-4568-AC9E-DEE0FB4B4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668C-FD12-471B-AEAE-F1376D254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67BD-62CE-424B-870D-C2F58F59263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1A23-B272-45D9-ACAB-6AA089F1FE7C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D582-5B9F-46E2-91D1-3EFE5A8A0F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2A99-996A-421E-9A75-0DC07E5A0F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2367-D3C2-4E8F-BBB6-4BEB431392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C330-0175-4A27-80FE-E6A200E893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DD87-FE8E-40FA-B80A-B5F6FD9E2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257C-EFD2-4752-B54E-F5BC4B57E6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7C61-0082-4AC7-87A7-7AE7C68D63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8DF8-4E82-4B44-A817-B82C87B259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DFA9-C122-47F4-83EF-11180ADBC8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A155-E15A-4E4A-9A77-474CA0B3FD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1090A-0370-4F2C-A144-CCBB4DDB0A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1D63-3CB6-4D61-8BD0-1C8349FF8B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0780-8B1E-43DB-904C-CCA0BC076F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E190-A713-4657-AC77-BCC42FFE5F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63BC-C758-4EDA-9B65-77ABE84CF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E64E-2D77-47E6-B992-677EF2AA4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9ED6-AF4A-45C7-A26C-E1CFD1976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590F-0977-4206-A97C-E7FB6271F1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58E4-5C52-4ED8-9445-C333C7197F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CBB1-7EFC-4167-9265-C0B9C91BD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765C-A363-4C50-A832-AB1FCE4E2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3T13:44:18Z</dcterms:modified>
  <cp:revision>89</cp:revision>
  <dc:subject/>
  <dc:title>Modelamiento Físico de Interfaces</dc:title>
</cp:coreProperties>
</file>